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9DC-F34B-46E4-A00E-76637FDD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7F5-E1ED-49FF-A515-2C6BF8CF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2F64-F63B-4EEA-9A36-AF4593BD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1A1-D98D-4023-A0DA-D0D7C114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99A-084C-4447-BA27-7EE1F880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78F-F671-4675-BCEC-1B3B1931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93D-80DF-4549-A900-65D5030E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459-639B-4E91-BAB9-899F7BBB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27DF-0B1B-4D57-B017-44B44C1F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E1A-976D-4EDC-AF71-5CA367FE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6D3-B11E-4F33-9F64-F7FBD9D1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DF07-01FD-4A7F-A050-8F31215E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37D9-898C-4477-8561-6D16FEB8F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2.40 a woman knocks on the door of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 cli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rin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6-year-o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her han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ince yesterday morning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e is lim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e encourag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 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alk, but it was not any better. Today, however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e do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wa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 use her right leg at 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she feels pain 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ry movement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examination we 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ction of the hip and kne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and ankle freely movable, pa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: right groin and t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OM 20 °- 90 ° flexion (contracture), abduction 0 ° - 10 °, ext. rot. 5 °-15 ° (p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lative shortening of the affected 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urological statu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eliminary diagn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c arthritis of 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nsient synovitis of 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cute worsening of hip dys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lipped capital femoral epiph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Which of these should be treated</a:t>
            </a:r>
            <a:br>
              <a:rPr sz="3600"/>
            </a:b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immediately (at 23h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c arthritis of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nsient synovitis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f 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cute worsening of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ip dys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lipped capital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moral epiph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the next step (at 23h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mediate antibiotic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. tests +  hip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ltra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OM exercises, hip ultrasound the next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04920" y="1828800"/>
            <a:ext cx="8534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o shall perform hip ultras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ho are qual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c conditions fo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nctur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if it turns out to be indic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d a sampl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crobiological examinatio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nd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rule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piration 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rthe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O ANTIBIOTIC UNTIL ASPIR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mergency laboratory inverst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ere should we refer the pati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heuma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c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diatric emergency d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hopaedic 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THE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. tes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P &lt;5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ucocytes 8.0 with normal differential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R 5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ltrasound: medium size effusion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              in the right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596880"/>
            <a:ext cx="73915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9200" y="0"/>
            <a:ext cx="5070600" cy="80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Now what (01:00 AM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RI of the hip + hip puncture in general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ip puncture in local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ospital admission and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ctructions of strict resting, Rx for NSAR,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sient synovitis of the hip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– trea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trict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least 1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ould stay in b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ROM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roxen syrup (NSA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tructions in case of wors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ontrol ex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ltrac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e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X-ray if no improvement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 week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then M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done with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vious septic arthritis of the hip (febrile child, CRP 120,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f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hip) at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: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mediate antibiotic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cture, then antibiotic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cture, drainage, then a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RI, puncture, drainage, then a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hi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ptic arthr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ways consider the possibility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steomyel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ope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RI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requir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erform the correct operational therap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s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moral head 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ost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acaps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 the delay of treatment poses a major risk for aseptic necrosis of the femoral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ENT HIP SYNOV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imping afebrile 4-8 chil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nsient hip synovitis should be sus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xclude septic arthritis, Perthes disease, slipped capital femoral epiph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children rec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out consequences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rect th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ld be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nitial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thes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ical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 is ess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ight-time sleep, ultrasound and laboratory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: delay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tic arthritis, prescr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ing pero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tibiotics "just in case" (should be given iv or nothing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ENT HIP SYNOV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quickly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xclu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ptic arthritis and se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home. Now my parent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le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 st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bed for a week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Ninten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7150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should be done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to the hospital tomorrow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ine the patient and then de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ssue analgesic prescription and examine tomorrow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mportant to ask 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ti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does the pai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l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w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hur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the chi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leep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uring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Chills?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y inf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st mon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ger factors (traum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taneous pain o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nly at mo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iseases, medications, all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s moth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pl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 lasts 2 d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thig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hu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ke up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ha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 up to 37°C yesterday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day the temperature is n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 not remember inj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when moving or standing, no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n b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gul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our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ip and knee pun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linical examination of lower extrem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ferral to laboratory tests of inflammation (the next mo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mediate referral to the hos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examination of the lower extrem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on (measurements, comparison with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y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lim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pation (swelling, effusion or thicke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lammatio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sig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ub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u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l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l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.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motion (outstretched = 0° flex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logical status of the lower extre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in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hip, we pay particular attentio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x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racture (Thomas t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/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l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functional difference in the length of the lower extrem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im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ain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g length discrepa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ip inspectio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less rel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 thick layer of mus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96040" cy="398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5219640" cy="24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29200" y="4038480"/>
            <a:ext cx="38098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5-01-06T04:35:27Z</dcterms:modified>
  <cp:revision>1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